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08A-7453-4890-9BA0-9685B5B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69E-2586-4C68-A287-96D3F0A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DB9-717D-47C3-920E-CD4FB716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902-859E-4894-BD5C-4956A21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113-8EBC-43E0-BD69-36ACDAB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401-55FA-46CC-827C-5CD85E32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F2D-C3C6-412E-94FA-49B750D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D09-9D73-4945-BCFC-F8E33FA0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56-2168-4A84-B895-37ED780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123-3C11-4951-9431-3752F31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F42-62B1-4297-9675-CC88B97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E01-8D04-4098-9470-EA69318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ABE0-4E5A-4BD8-8205-6B8BB2AE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020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11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24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5308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40000" y="44197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4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386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7086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3120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30Z</dcterms:modified>
  <cp:revision>107</cp:revision>
  <dc:subject/>
  <dc:title>The Art in the State of the Art</dc:title>
</cp:coreProperties>
</file>